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4B2-5999-4ACF-A084-863B120B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DB6-5FDC-4123-8C87-157F5995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FE1D-5187-4A2B-BA3F-0C53A879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C36-083C-4C09-AAB8-6D1ECAAF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B10A1-F4D9-4451-BD50-04712430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4735-B2EC-4798-810C-673D58F2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D51-902A-4639-B56A-B95F9C5E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952EA-B0ED-4CD5-9B2E-F42304A4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CAC4-8EED-4BA1-B2E4-89255D11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9A9F-E2E5-4064-ACD2-CAE4DE72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712F-29A9-46E8-88EE-EEAA706F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9BFD-C2C6-4B12-A385-AE2D348F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05E9-5B0C-47C6-8604-A123D04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F314-B258-4F4F-A7C7-DC3025F0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DFD3-A3FC-4C7E-A007-926FE078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F24B-E6DB-4248-A0D9-4BBC51A8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BE22-09BB-4F9E-A9D0-39DD220E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3E5-BE2D-4632-8187-CBE0D34A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FCE-1285-41F6-A218-E3287DB1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3BC-079A-4BDC-A4FA-642DD6E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571-32E7-4D57-AFA5-665D5FCE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ED5-3715-4840-A2D7-C94860A6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0A4-FA1B-4B20-A063-72E8830E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3127-C1F9-4CB9-B3C1-EED6581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1bf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8ad4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b3ce82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CE91-21A1-4F92-BF5E-A3930417B3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8ad4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bf9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b3ce82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2881-DF14-47FE-A3ED-D2E038266DDC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Structure of TAKS Selection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142640" y="342900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Se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ired Sel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Narrative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c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ories that ha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rr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written as a letter or diary entr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usually have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o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Expository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u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ten about a content-based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p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noteworth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er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f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tit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Functional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vertisement, application forms, directions, flyers, instructions, notes or programs, recipes or book and movie re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Mixed Selection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in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rrative and Ex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Paired Selections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reading selections that are put together for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00:31:57Z</dcterms:created>
  <dc:creator>Teresa Easterling</dc:creator>
  <dc:description/>
  <dc:language>en-US</dc:language>
  <cp:lastModifiedBy>Teresa Easterling</cp:lastModifiedBy>
  <dcterms:modified xsi:type="dcterms:W3CDTF">2008-08-01T17:46:39Z</dcterms:modified>
  <cp:revision>3</cp:revision>
  <dc:subject/>
  <dc:title>Structure of TAKS Selections</dc:title>
</cp:coreProperties>
</file>